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AD3-56B8-4C4E-AD92-E1F888879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53D-F651-46CB-B915-C18F2B67E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ED28-2CA2-47C5-9498-91468561E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A7C6-2383-41E1-B65C-9EACE0B7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62B2-3EEF-44C3-9FF4-693500393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41F6-7532-46BB-AE44-4D0A65FA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AA20-3996-4E02-9DBC-3F612BA26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9474-5358-4E2C-964E-0444BAEF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1A13-AEED-4C03-8619-CAD56013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35794-2CC4-426D-936F-E5C5CA44A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6BE5-1A09-4570-9A05-E91E8E35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9A63-C85C-417B-A74D-B9FDEBC81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D23A2-F364-4A1A-A20F-F0E27F03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13C3-738C-455E-AB7C-7FEF8218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82729-6FC2-416F-AA3B-091EAC7D5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972A-6898-455A-AD25-10FF1FD64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172F-2026-4252-962A-96E91BAF0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867BC-5A0B-403E-8D75-58C74ABA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F62B1-9E09-4080-B49B-166D6968D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8A393-46D0-48BC-A91C-9D2EE3C48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8B4671-9900-409A-ADA7-3DDFA2D7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961B-EA86-495F-82BA-0E5BCE9FD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6043-26D0-4920-ABDB-833375230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834A-6E78-4B84-9DC6-ABB5134F8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F2D3D3-6B3F-49C4-870E-1F5428D1E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72C203-273B-4563-8FB8-2582D008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33F67-8F05-4380-8CEC-90C22039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014FB-0AF7-4A73-B95D-2D508E61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1E543E-3C02-4547-A4A4-7F8EAE9B2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5F5F0-6492-452D-96B5-E376A42D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A9CE-C5C9-462F-B9B5-ED61C170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8AE7-6BA1-41E7-9C4F-6A0780AC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0FAF-CB28-4488-8A98-449CCE05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2B64-B819-4FE4-8D9A-07849904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3FF-663D-4385-9506-6F615103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F56-73D6-4649-BA0D-B05FBEEDA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DAAC-98BD-4DF6-8F02-F46F8F8BB56B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6886C-571C-43A3-AC56-5C173CA6030F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CCE50-0DC0-4ABD-983B-473C8108B28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ppt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908000" y="1557360"/>
            <a:ext cx="5328000" cy="2448000"/>
          </a:xfrm>
          <a:prstGeom prst="rect">
            <a:avLst/>
          </a:prstGeom>
        </p:spPr>
        <p:txBody>
          <a:bodyPr wrap="none" lIns="110160" rIns="110160" tIns="55080" bIns="55080" anchor="t" anchorCtr="1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Program cezhraničnej spolupráce 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ďarská republika- Slovenská republika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cc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007-2013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cc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4" name=""/>
          <p:cNvSpPr/>
          <p:nvPr/>
        </p:nvSpPr>
        <p:spPr>
          <a:xfrm>
            <a:off x="1535400" y="4508640"/>
            <a:ext cx="6009840" cy="3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chválenie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. december 2007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Identifikačné číslo: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2007CB163PO0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31960" y="5495760"/>
            <a:ext cx="1959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g. Zsolt Törö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Bratislava, 28.02.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79280" y="1197000"/>
            <a:ext cx="864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Zabezpečená finančná alokácia za prísne definovaných podmienok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Odborné pozadie, transfer know-how, 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 u="sng">
                <a:solidFill>
                  <a:srgbClr val="000000"/>
                </a:solidFill>
                <a:uFillTx/>
                <a:latin typeface="Calibri"/>
              </a:rPr>
              <a:t>Nepriamy prín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, posilnenie nových/existujúcich partnerstiev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vytvorenie/posilnenie komunikácie na úrovni vertikálnej a horizontálnej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realizácia „zdola“ (bottom-up) vychádzajúcich rozvojových zámerov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posilnenie konkurencieschopnosti regiónov, 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57800" y="35100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ínos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322200" y="981000"/>
          <a:ext cx="8353440" cy="5106960"/>
        </p:xfrm>
        <a:graphic>
          <a:graphicData uri="http://schemas.openxmlformats.org/drawingml/2006/table">
            <a:tbl>
              <a:tblPr/>
              <a:tblGrid>
                <a:gridCol w="2089080"/>
                <a:gridCol w="2089440"/>
                <a:gridCol w="2085840"/>
                <a:gridCol w="2089080"/>
              </a:tblGrid>
              <a:tr h="1073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are CBC (Cross-border Co-operation) 2001-20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Fond mal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susedstva HUSKUA 2004-2006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gram cezhraničnej spolupráce HUSK 2007-20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</a:t>
                      </a: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 výzv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inančná alokáci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372 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372 00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U: 8 522 875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K: 5 548 000 EUR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 014 050 E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ypy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Zrkadlový, - Doplňujú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Individuálny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oločný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exemplár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7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5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originál+ 2 kópií + elektronický nosič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čet podporených projektov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 program (HU0109): 9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2 program (2002/000-604): 11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6 k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čakávania program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zhraničný dopad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Cezhraničný dopad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spodár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Trvalá udržateľnos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hu-HU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ovnosť šancí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kritériá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sk-SK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cíp vedúceho partner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"/>
          <p:cNvSpPr/>
          <p:nvPr/>
        </p:nvSpPr>
        <p:spPr>
          <a:xfrm>
            <a:off x="7094160" y="324000"/>
            <a:ext cx="172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Evolúcia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119700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..... prebieha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3.výzva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 na prekladanie projektov, </a:t>
            </a:r>
            <a:r>
              <a:rPr b="0" lang="sk-SK" sz="2400" spc="-1" strike="noStrike">
                <a:solidFill>
                  <a:srgbClr val="ff3300"/>
                </a:solidFill>
                <a:latin typeface="Calibri"/>
              </a:rPr>
              <a:t>do 28.02.2011, 23.59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5280" y="351000"/>
            <a:ext cx="23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mentáln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rcRect l="15394" t="21474" r="13619" b="28986"/>
          <a:stretch/>
        </p:blipFill>
        <p:spPr>
          <a:xfrm>
            <a:off x="539640" y="1844640"/>
            <a:ext cx="7704360" cy="43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156360" y="35100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merujeme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1552680"/>
            <a:ext cx="88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..... k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.výzve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na prekladanie projekto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ý termín zverejnen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2.štvrťrok 2011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redpokladaná alokácia: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cca.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48 ME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lasti podpory: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 ?, predmetom rokovania SM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1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45 009 737,12 EUR,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(246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6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Finančná alokácia 2. výzvy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64 635 978,32 EUR, (270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107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projektov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Predp. finančná alokácia 3. výzvy (EUR):</a:t>
            </a:r>
            <a:r>
              <a:rPr b="1" lang="hu-HU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10 500 000,00 (?/</a:t>
            </a:r>
            <a:r>
              <a:rPr b="0" lang="hu-HU" sz="2200" spc="-1" strike="noStrike">
                <a:solidFill>
                  <a:srgbClr val="ff3300"/>
                </a:solidFill>
                <a:latin typeface="Arial"/>
              </a:rPr>
              <a:t>?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 flipV="1" rot="10800000">
            <a:off x="5586480" y="1051560"/>
            <a:ext cx="3240000" cy="8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 u="sng">
                <a:solidFill>
                  <a:srgbClr val="000000"/>
                </a:solidFill>
                <a:uFillTx/>
                <a:latin typeface="Arial"/>
              </a:rPr>
              <a:t>Prioritné osy a oblasti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03640" y="2565360"/>
            <a:ext cx="399924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1 </a:t>
            </a:r>
            <a:br>
              <a:rPr sz="1700"/>
            </a:b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Hospodárstvo a spoločnosť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7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41% (85 133 59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2</a:t>
            </a:r>
            <a:br>
              <a:rPr sz="1700"/>
            </a:br>
            <a:r>
              <a:rPr b="1" lang="pl-PL" sz="1700" spc="-1" strike="noStrike">
                <a:solidFill>
                  <a:srgbClr val="000000"/>
                </a:solidFill>
                <a:latin typeface="Arial"/>
              </a:rPr>
              <a:t>ŽP, ochrana prírody a dostupnosť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53% (110 050 746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PRIORIT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 O</a:t>
            </a:r>
            <a:r>
              <a:rPr b="1" lang="pt-BR" sz="17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sk-SK" sz="1700" spc="-1" strike="noStrike">
                <a:solidFill>
                  <a:srgbClr val="000000"/>
                </a:solidFill>
                <a:latin typeface="Arial"/>
              </a:rPr>
              <a:t>3</a:t>
            </a:r>
            <a:br>
              <a:rPr sz="1700"/>
            </a:br>
            <a:r>
              <a:rPr b="1" lang="hu-HU" sz="1700" spc="-1" strike="noStrike">
                <a:solidFill>
                  <a:srgbClr val="000000"/>
                </a:solidFill>
                <a:latin typeface="Arial"/>
              </a:rPr>
              <a:t>Technická asistenc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700" spc="-1" strike="noStrike">
                <a:solidFill>
                  <a:srgbClr val="ff3300"/>
                </a:solidFill>
                <a:latin typeface="Arial"/>
              </a:rPr>
              <a:t>6% (12 458 575 EU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4716000" y="1773360"/>
            <a:ext cx="647640" cy="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0160" rIns="110160" tIns="-55080" bIns="-55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0" y="-27000"/>
            <a:ext cx="4629240" cy="6867360"/>
            <a:chOff x="0" y="-27000"/>
            <a:chExt cx="4629240" cy="6867360"/>
          </a:xfrm>
        </p:grpSpPr>
        <p:sp>
          <p:nvSpPr>
            <p:cNvPr id="139" name=""/>
            <p:cNvSpPr/>
            <p:nvPr/>
          </p:nvSpPr>
          <p:spPr>
            <a:xfrm>
              <a:off x="0" y="-27000"/>
              <a:ext cx="4629240" cy="6867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147680" y="161280"/>
              <a:ext cx="2296440" cy="7221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ogram cezhraničnej spoluprác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Maďarsko -Slovensk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2007 - 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14440" y="864360"/>
              <a:ext cx="0" cy="5461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536480" y="1026720"/>
              <a:ext cx="167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148824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188880" y="1026720"/>
              <a:ext cx="48240" cy="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4480" y="1135080"/>
              <a:ext cx="156744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Hospodárstvo a spoloč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41832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18680" y="1730160"/>
              <a:ext cx="0" cy="427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064400" y="17301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210200" y="1730160"/>
              <a:ext cx="11520" cy="362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8480" y="1135080"/>
              <a:ext cx="1567800" cy="64836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ŽP,</a:t>
              </a: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chrana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 dostupnosť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64480" y="189252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upráce     v oblasti hospodárstva     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64480" y="254124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upráca v oblasti V&amp;V a inovácií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08480" y="189252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             na podporu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08480" y="27579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aktivity ochrany prírod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8680" y="2216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8680" y="28652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4400" y="22705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97000" y="6326280"/>
              <a:ext cx="2236320" cy="3776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RIORITNÁ OS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Technická asistenc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64480" y="319068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Podpora spoločného rozvoja turizmu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64480" y="3785760"/>
              <a:ext cx="1555920" cy="640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ý rozvoj a koordinované využívanie zdravotníckych zariadení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4480" y="4542480"/>
              <a:ext cx="1555920" cy="4806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5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Rozvoj sieťovania,partnerstva,  prog. &amp; proj. kapacít manažm.</a:t>
              </a: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480" y="5137560"/>
              <a:ext cx="1555920" cy="548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Spoločné využívanie a rozvoj ľudských zdroj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4480" y="5786280"/>
              <a:ext cx="1555920" cy="388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e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1.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Aktivity Ľudia ľuďo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8680" y="3459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8680" y="41637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18680" y="475884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8680" y="529992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8680" y="60022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08480" y="3406680"/>
              <a:ext cx="1549440" cy="70776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Výstavba maloplošných komunikácií, cyklistických trás, verejná doprav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08480" y="4272120"/>
              <a:ext cx="1549440" cy="70812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abezpečenie lepších hraničných prechodov cez prihraničné riek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508480" y="5137560"/>
              <a:ext cx="1549440" cy="548280"/>
            </a:xfrm>
            <a:prstGeom prst="rect">
              <a:avLst/>
            </a:prstGeom>
            <a:gradFill rotWithShape="0">
              <a:gsLst>
                <a:gs pos="0">
                  <a:srgbClr val="ccecf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Oblasť podpory 2.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333399"/>
                  </a:solidFill>
                  <a:latin typeface="Times New Roman"/>
                  <a:ea typeface="MS Mincho"/>
                </a:rPr>
                <a:t>Zlepšenie komunikačných kanál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64400" y="31359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64400" y="383940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064400" y="454248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64400" y="5353560"/>
              <a:ext cx="14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6" name="Szöveg helye 2"/>
          <p:cNvGraphicFramePr/>
          <p:nvPr/>
        </p:nvGraphicFramePr>
        <p:xfrm>
          <a:off x="2211480" y="115920"/>
          <a:ext cx="4592520" cy="612144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77" name="Szöveg helye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11480" y="115920"/>
                    <a:ext cx="45925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142920" y="1989000"/>
            <a:ext cx="889308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04000" y="765000"/>
            <a:ext cx="2160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vostupňová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artnera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MPaRV S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372000" y="1125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877080" y="3284640"/>
            <a:ext cx="216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ruhostupňová  kontrola 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na úrovni projekt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(STS Program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30+30 d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6372000" y="3789360"/>
            <a:ext cx="433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0360" y="1076400"/>
            <a:ext cx="1500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aždý partn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za se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1440" y="3387600"/>
            <a:ext cx="150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Zodpovedný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edúci part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63640" y="148428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63640" y="3645000"/>
            <a:ext cx="6476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156360" y="35100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Skúsenosti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9280" y="1268280"/>
            <a:ext cx="88567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MIS (podávanie ŽoNFP, monitorovacia správa na úrovni projekt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bľúbené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menej obľúbené oblasti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pružné/nasilu vytvorené partnerstvá (počet partnerov, hodnotenie </a:t>
            </a:r>
            <a:r>
              <a:rPr b="0" lang="sk-SK" sz="2200" spc="-1" strike="noStrike">
                <a:solidFill>
                  <a:srgbClr val="ff3300"/>
                </a:solidFill>
                <a:latin typeface="Arial"/>
              </a:rPr>
              <a:t>versus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implementác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ostatočná komunikácia (vertikálna, horizontáln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dsotatočné finančné zázemie (finančná kríz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eúnosné množstvo žiadostí o zmenu projektu (realokácia financií, zmena manažérov, predĺženie projektu,...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Odstúpenie od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+3/2 parvidl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ízka kvalita predložených monitorovacích sprá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Nadhotnotené indiká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200" spc="-1" strike="noStrike">
                <a:solidFill>
                  <a:srgbClr val="000000"/>
                </a:solidFill>
                <a:latin typeface="Arial"/>
              </a:rPr>
              <a:t>Publicity guide (striktné predpisy),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844640"/>
            <a:ext cx="8856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Ďakujem za pozornosť a v mene S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ám prajem veľa úspechov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i implementácii projekt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zabúdajte: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ak máte pochybnosti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ff3300"/>
                </a:solidFill>
                <a:latin typeface="Arial"/>
              </a:rPr>
              <a:t>pýtajte sa!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My sme tu pre Vás a Vy ste tu pre nás </a:t>
            </a:r>
            <a:r>
              <a:rPr b="0" lang="sk-SK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6T09:42:45Z</dcterms:created>
  <dc:creator>thomas</dc:creator>
  <dc:description/>
  <dc:language>en-US</dc:language>
  <cp:lastModifiedBy>TorokZsolt</cp:lastModifiedBy>
  <dcterms:modified xsi:type="dcterms:W3CDTF">2011-02-25T11:03:08Z</dcterms:modified>
  <cp:revision>39</cp:revision>
  <dc:subject/>
  <dc:title>1. dia</dc:title>
</cp:coreProperties>
</file>